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A8AC-34BA-4565-B1EB-F574BAF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28DF-506E-47BE-A379-2F7599E0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CF2D-A8BC-4EBA-97C2-6B305F80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07C4-26F4-4988-B512-789589A7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DEA-9A45-4BE8-A3CA-296FBDA8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B794-5932-49D6-8478-0A756A83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3BC-9F5F-483D-B638-BA5083DA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D2E0-DB9D-47AF-AA63-D0FDDEF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C019-E6A8-4640-88A7-F8C196F1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125-B7A4-42A6-8B46-8AAF9C8F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191F-B8F4-460A-8907-4D10841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D323-043F-4287-AEFB-2F37C736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D792-BF96-4B68-BC09-9EDB2CD8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0CA-D0EF-441F-8C14-2CC390A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1236-7455-4B0E-B226-82DDC46C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36C1-FFC5-45F2-B098-43EF4AB5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F41A-3E42-4CD1-81C7-2F7DD789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E2D1-8D26-47CE-8445-82CCE3E7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82F1-8F5F-46C2-A653-49DB13AA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EC64-1D8E-4F92-BC82-CFD2E825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A11C-2101-4A9D-81FF-F5F482DB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8FF8-049A-44BB-98A2-23E414D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FC20-8B0B-4FFB-A690-1235917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FC5D-D100-4B41-B162-8F2F490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2AA-F026-49CA-8512-017E598B2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C64-D5BE-4AA5-B679-11F8BEA0A60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2895480" y="624348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91FB-B46A-4B2E-9A35-93A8DBBA633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A08B-C6E9-4B97-9CE3-BC6CC3E7B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1844640"/>
            <a:ext cx="6705720" cy="17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Baseball Offensive Simulator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simulation for baseball line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inciples of th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batter is allocated a set of frequencies for plate appearance outcomes (BB/HBP, 1B, 2B, 3B, HR, O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ose frequencies, CrystalBall generates a random number between 0 and 1 that determines every plate appearance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alculates how many runs will have scored after 9 in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0D00-DCE8-4A7E-A3D8-44B6CD8BBD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4BB4F6-DD98-480F-882F-9AEF7147FA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ssumptions of th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ive errors are ignored (but results are relevant against Earned Runs Avera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ouble plays, no stolen bases, no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ners do not advance on 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ngle, runners score from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 and advance to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double, every on-base runner s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3745-49D7-4DF3-A05C-A31492409D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1C686D-66D9-4462-93A8-E710AAC480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Mets’ current lineu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New York M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Du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y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nan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45720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4.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3.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572000" cy="23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9949-7314-4B1B-9352-2F5A6CEAE4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CEED42-764F-45DB-B777-361BFE8CA5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s Reyes hurting the Met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5.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3.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New York M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Du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y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nan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543560" cy="231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65DE-CE8C-4770-9892-846E295542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F84598E-F65C-4B21-81E3-4D7FD2322D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o’s the Mets’ best hit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03848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8.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4360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4.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ga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3149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ABC3-CC31-453A-8A5A-5EB7EE0D87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43310C0-5899-42AF-91A1-C7C5F18CC5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o’s the Mets’ best hit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3848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7.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4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3149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7573-7595-43BB-8826-25DB67872D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985FD0A-CDFE-4312-989C-FFCC1EB64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ould pitchers hit 8</a:t>
            </a:r>
            <a:r>
              <a:rPr b="0" lang="en-US" sz="4400" spc="-1" strike="noStrike" baseline="30000">
                <a:solidFill>
                  <a:srgbClr val="dfdef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or 9</a:t>
            </a:r>
            <a:r>
              <a:rPr b="0" lang="en-US" sz="4400" spc="-1" strike="noStrike" baseline="30000">
                <a:solidFill>
                  <a:srgbClr val="dfdef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4.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3.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New York M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Du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y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rnan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149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C17C-7198-4F65-BF9D-2A1FA94080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9B6217C-FAE2-4BF2-8BCC-A2BB49B615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56C7-39AC-4BA2-818C-D93DEED990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3576630-662C-4827-84ED-6911BEB8C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4:40:41Z</dcterms:created>
  <dc:creator>Stern Business School</dc:creator>
  <dc:description/>
  <dc:language>en-US</dc:language>
  <cp:lastModifiedBy>Stern School of Business</cp:lastModifiedBy>
  <dcterms:modified xsi:type="dcterms:W3CDTF">2006-04-24T18:39:06Z</dcterms:modified>
  <cp:revision>3</cp:revision>
  <dc:subject/>
  <dc:title>Slide 1</dc:title>
</cp:coreProperties>
</file>